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ACD-2CD4-4041-8AA5-E05638A4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6CA-BD53-446A-BFFA-3193A618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BE3-046A-4344-B237-D56231BD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FEB-5CDA-40A3-B5E3-4EA5B166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870-6D42-4C1F-8426-3626E36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387-9FAC-4A5B-866D-4A2FDDC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95C-8A1B-4796-871C-7CAAAA5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EDA-CDA8-4F61-83D5-E3B27D2D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771-9D8F-4EB0-BB3E-4DD54BB8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7BD-1DA7-4A0B-A4AA-6BA5EF2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029-9D1C-450E-BD9F-25AD4CA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A68-54E0-4DBE-88AA-53865D0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DC0-0454-460A-81DA-1F8D54C2B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05520" y="48006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u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eaufort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28600"/>
            <a:ext cx="8381880" cy="41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r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7391520" y="2743200"/>
            <a:ext cx="5331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960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238880" y="3504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696080" y="3504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7391520" y="4343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952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 only way to measure scientifica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Pre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380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838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52388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286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971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971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7339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495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4495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5181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2400" y="51814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draw a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r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ith 7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181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209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124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n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6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7621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990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write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e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676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write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pre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8680" y="1828800"/>
            <a:ext cx="39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2590920"/>
            <a:ext cx="692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760" y="4038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9080" y="47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8400" y="5486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447920" y="3657600"/>
            <a:ext cx="2133360" cy="838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09680" y="3733920"/>
            <a:ext cx="1447920" cy="13716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76720" y="3809880"/>
            <a:ext cx="457200" cy="1828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572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ter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257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liters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5638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grams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429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, write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umerical mea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600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7720" y="2209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37640" y="29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6984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6760" y="44956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53880" y="5105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07680" y="5791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362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Note: The “ones” is not a prefix, but holds the place for the m, l, 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Mnemon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8380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52388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286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971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971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7339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495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4495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5181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51814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685800"/>
            <a:ext cx="3733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NVE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276720"/>
            <a:ext cx="297180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these prefixes end in “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238520" y="3962520"/>
            <a:ext cx="381240" cy="1523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324480" y="4038480"/>
            <a:ext cx="1067040" cy="6098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160" y="3962520"/>
            <a:ext cx="15238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760" y="-360"/>
            <a:ext cx="23619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Using the Stair-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80880"/>
          <a:ext cx="568008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5680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257800" y="4800600"/>
          <a:ext cx="39672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4800600"/>
                    <a:ext cx="39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24852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.6 ml = _? _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429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“Yourself” on the unit you are going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14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teps AND IN WHICH DIRECTION must you go to reach the unit you’re looking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41008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’s 6 places to the LEFT, and s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35.6 ml = 0.0000356 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8 -0.00647 C -0.01476 -0.00855 -0.01476 -0.01086 -0.01389 -0.01271 C -0.0125 -0.01526 -0.00937 -0.01618 -0.00903 -0.01919 C -0.0066 -0.05526 -0.00851 -0.05873 -0.02326 -0.07838 C -0.03177 -0.08948 -0.02413 -0.08485 -0.03281 -0.08878 C -0.03732 -0.09479 -0.04444 -0.09896 -0.05035 -0.1015 C -0.06684 -0.09988 -0.07535 -0.10474 -0.08055 -0.08462 C -0.0809 -0.10566 -0.0809 -0.12693 -0.08194 -0.14797 C -0.08246 -0.1593 -0.08941 -0.16508 -0.09479 -0.17133 C -0.10851 -0.18728 -0.1026 -0.18196 -0.12187 -0.18821 C -0.13854 -0.18682 -0.14826 -0.18497 -0.16302 -0.17965 C -0.16406 -0.17549 -0.16614 -0.16277 -0.16614 -0.16716 C -0.16667 -0.19468 -0.16667 -0.22196 -0.16771 -0.24948 C -0.16771 -0.25179 -0.1684 -0.2541 -0.16927 -0.25595 C -0.17552 -0.26982 -0.18316 -0.27861 -0.19305 -0.28763 C -0.19583 -0.29017 -0.19948 -0.2904 -0.2026 -0.29202 C -0.20417 -0.29248 -0.20746 -0.29387 -0.20746 -0.29364 C -0.21649 -0.29341 -0.22552 -0.29433 -0.23437 -0.29202 C -0.23628 -0.29133 -0.23663 -0.28809 -0.2375 -0.28555 C -0.24097 -0.27653 -0.24149 -0.26566 -0.24392 -0.25595 C -0.24462 -0.29225 -0.23403 -0.3674 -0.26927 -0.39121 C -0.27552 -0.39537 -0.28194 -0.39607 -0.28854 -0.39745 C -0.29792 -0.39676 -0.30764 -0.39792 -0.31701 -0.39537 C -0.32205 -0.39399 -0.32326 -0.37641 -0.32326 -0.37618 C -0.3243 -0.41526 -0.31996 -0.44578 -0.3408 -0.47352 C -0.35017 -0.48601 -0.34496 -0.48254 -0.35347 -0.48624 C -0.35868 -0.49086 -0.36406 -0.49225 -0.36927 -0.49688 C -0.37899 -0.49595 -0.38785 -0.49965 -0.39479 -0.4904 C -0.39861 -0.48531 -0.39948 -0.47768 -0.40104 -0.47144 C -0.40208 -0.46728 -0.40417 -0.45873 -0.40417 -0.45849 C -0.40469 -0.48416 -0.3941 -0.56277 -0.42639 -0.57711 C -0.43368 -0.58682 -0.42535 -0.57688 -0.43437 -0.58358 C -0.44965 -0.59468 -0.43802 -0.59005 -0.45035 -0.59399 C -0.45798 -0.60485 -0.47135 -0.60231 -0.47882 -0.5919 C -0.48038 -0.58589 -0.48246 -0.57734 -0.48368 -0.57086 C -0.48576 -0.55861 -0.48316 -0.563 -0.4868 -0.55815 L -0.48837 -0.59838 E">
                                      <p:cBhvr>
                                        <p:cTn id="22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24120" y="-360"/>
            <a:ext cx="2514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568008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5680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248520" y="2286000"/>
            <a:ext cx="2743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7 g = _______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90 cm = _____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 hl = ______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8 cg = _____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5 kl = ______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3 m = ______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P.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ose are NOT the only prefixes used in the metric system…you are familiar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an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more! (What do these mea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[Look these up in your text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so: HOMEWORK: finish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22:51:16Z</dcterms:created>
  <dc:creator>marti</dc:creator>
  <dc:description/>
  <dc:language>en-US</dc:language>
  <cp:lastModifiedBy>jluckey</cp:lastModifiedBy>
  <dcterms:modified xsi:type="dcterms:W3CDTF">2009-08-25T16:48:08Z</dcterms:modified>
  <cp:revision>30</cp:revision>
  <dc:subject/>
  <dc:title>Slide 1</dc:title>
</cp:coreProperties>
</file>